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054-5EB5-44BD-8D09-B8F9607E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D3A-1032-4E2D-9692-BAC7A0F2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DE36-480A-487D-B7B0-B110DED7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4E00-4A84-42F3-8B20-F0AA9D82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0ADC-FFA2-4E19-BF3E-3B4452EF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875A-87EB-4863-85AF-D1895B43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E174-A369-4D44-AE90-617ACB08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1B40-C04B-4925-873C-1DE995AB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9EC3-C76B-450C-8EFA-5877C823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9595-45B1-4AD6-9572-FBCB2019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5B64-C147-4593-8CB1-1FFF24F9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292-DD00-4324-8FCD-A0026B81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4C0E-4E19-44D9-B0FB-5841FF25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656B-E93B-4EDC-9BEA-61A4B040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2B31-28E6-42CA-B852-CCFBCB15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C760-BA9A-4952-927C-55B1BF97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9DB2-2CD0-42CB-ABC5-C6638A13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3B700-4894-4AAE-A2B1-A010E15C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2BA7F-F84C-46DB-9E4F-E634FBA0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71ED3-54ED-4ACD-A1A4-43C1212B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AA580-7649-4039-85BB-C2DA527B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C64E5-7ED7-46E6-A5C2-B1795B3E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F8F-9125-4BDC-B9DB-8E8B6C4F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2E3DD-08FE-4C2E-83C0-E19D9591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47060-93F8-43CD-8E66-0C5B7137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B618C-7414-4CE2-8F5E-8FABA008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3AA01-C526-431A-885A-26326D7F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2A199-9B81-4242-9752-D6C0F8B5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3CB18-4FD7-4244-9576-A8294746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807B2-EF13-47C0-8E5D-FA2C8976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7EC22-ECE1-4F39-91C6-675213AF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C3873-F225-4D06-9FF3-B7F69651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B1B4D-1E2D-4490-90F4-DD98F06C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46A-281A-45A7-9B51-EF7E0340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3A2F2-46B4-4586-9307-B0BC8565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8564F-B71D-48A9-B06F-EE3A2609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1E090-C37F-4F0D-810C-78491A69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7C706-4467-4F15-8252-7638F1E0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8704E-BC5E-4F39-B0FA-D771F921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D1332-667A-4BA4-A940-2A5FDC12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CBE50-CEC7-4EEF-87C2-6F1C31DC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D350C-55FE-42BF-9FCE-0200B00D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09722-7C30-4F3B-BD68-ABDA160E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1178-64A1-4FAA-B0BD-D9498EF0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2D1-F5CC-4280-A480-52DD6B22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702F-E6FB-49AE-94CE-579D8DE9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316F-7FBC-45C4-BA6B-94BBD66B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57A-812B-45A7-AC2E-A111500D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9178-56A3-45F3-9B91-A2F9D1EAA11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F8DE-45C3-4DBD-81DA-95721C0FCB7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B269-9B89-4D38-8D2E-059A30D96C6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3D69-0799-4B35-9158-E35961E40A0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390600" y="2279520"/>
            <a:ext cx="8521560" cy="1219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W PUBLIC MANA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MOTIVATED BY GOALS, NOT BY RULES &amp; REGUL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REDEFINES CLIENTS AS CUSTOMERS AND OFFERS THEM CHOI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PREVENT PROBLEMS BEFORE THESE EMERGE, RATHER THAN OFFERING SERVICES AFTERWAR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W PUBLIC MANA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STRESS ON PROFIT, EARN MORE, NOT SIMPLY SPENDING 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DECENTRALIZE AUTHORITY &amp; PROMOTE PARTICIPATIVE MANAGE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PREFER MARKET MECHANISMS TO BUREAUCRATIC MECHANIS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INCLUSIVE IN APPROACH – PUBLIC, PRIVATE, VOLUNTARY SECTORS – IN SOLVING PROBLEMS OF THE COMMUN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GAN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GANIZATION REFERS 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 PLAN OF AC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O ENSU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ULFILMENT OF PURPOSE OR PURPOS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WHICH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GROUP OF INDIVIDUAL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HAS SET F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REALIZATION,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OWARDS THE ATTAINM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F WHICH THEY A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LLECTIVELY BEND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EIR ENERG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GAN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VIDING WORK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ULATE STANDARD PRACT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MIT DECISIONS DOWNWARD, UPWARD, CROSSWAY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COMMUNICATION SYSTE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I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GAN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RINCIP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IERARCH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PAN OF CONTR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NITY OF COMMA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RUC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FF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E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GAN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UNCTION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        PLAN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      ORGANIZ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       STAFF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      DIRECT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   COORDINAT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      REPORT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      BUDGET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IVIL SERV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NION GOVERN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ATE GOVERN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UREAUC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AX WEBER’S THE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HARACTERIS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PARATION OF OFFICE &amp; ITS INCUMBENT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LECTION BY MERI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IXED REMUNERATION OF ITS OFFICIAL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UREAUC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FFICIALS SUBJECT TO DISCIPLINE &amp; CONTROL WHILE PERFORMING OFFICIAL WORK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ERARCHY OF OFFIC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OCATION OF ACTIVITIES OF ORGANISATION NEEDED TO FULFIL ITS OBJECTIV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UREAUC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OCATION OF AUTHORITY REQUIRED TO DISCHARGE ACTIVITI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RICT ADHERENCE TO RUL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FFICIALS IMPERSONAL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LE OCCUPATION OF OFFICIAL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ITUTES A CARE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UBLIC ADMINIST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TAKING OVER OF THE EAST INDIA COMPAN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GOVERNMENT OF INDIA ACT, 1919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IGNIFICAN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EMERGENCE OF ADMINISTRATIVE STA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WELFARE ORIEN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UREAUC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EW PREMI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CIVIL SERVANTS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 BENEVOLENT SOCIAL GUARDI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LFLESSLY SEEK THE WELFARE OF THE PEOPLE, EVEN WHEN THE PEOPLE THEMSELVES DO NOT KNOW WHAT IS IN THEIR BEST INTERE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UREAUC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ALTERNATE VIE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IVIL SERVANTS PURSUE SELF-INTEREST RATHER THAN COMMON GO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REATE OPPORTUNITIES FOR RENT SEEK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AXIMISE PERSONAL UTIL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BUREAUCRACY – NEW TREND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ITIZENS AS CUSTOM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NCE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UBLIC CHOICE THE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UREAUCRATIC ACCOUNTABILITY ENSURING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QUALITY OF SERVIC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ELIMINATION OF INEFFICIENCY AND ABUSE OF DISCRETIONERY POWE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BUREAUCRACY – NEW TREND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OPENNESS AND TRANSPARENCY IN ADMINISTR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RADITIONAL MODEL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AIMED AT INTERNALITY OF ADMINISTRATIVE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nstantia"/>
              </a:rPr>
              <a:t>IGNORED EXTERNALITY OF DIFFERENT SYSTE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UR SITU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D PEOPLE&lt; &gt;BAD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D PEOPLE&lt; &gt;GOOD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OD PEOPLE&lt; &gt;BAD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OOD PEOPLE&lt; &gt;GOOD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BUREAUCRACY IN NEW PUBLIC MANAGEMENT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PREREQUISIT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 T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 – TECHNOLOGY UPGRAD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- TECHNIQUES OF MANAGE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O ENSURE -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      </a:t>
            </a: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EFFECTIVENE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      </a:t>
            </a: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      </a:t>
            </a: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CAPACITY BUILD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BUREAUCRACY IN NEW PUBLIC MANAGEMENT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 - TRAIN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 - TRANSPAREN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 D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 - DECENTRALIS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 - DELEG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BUREAUCRACY IN NEW PUBLIC MANAGEMENT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 – DEMOCRATISATION O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DMINISTRATIVE POWER e.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PRIVATIS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SIMPLIF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REMOVING DELAY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 – DEBUREAUCRATIS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DMINISTRATIVE 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HISTORICAL PERSPECTI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SO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SIGNIFICANT MILESTO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4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YYANGAR COMMITTE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ORGANISATION OF MACHINER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F GOVER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UBLIC ADMINIST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DEALS WITH WIDE VARIETY OF MATT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ACCOMMODATE CHAN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f6fc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ADMINISTRATIVE ACTIVITIES OF THE STA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LINKAGE WITH THE EXECUTIVE BRANC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EXPANDING/CHANGING WITH TIM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ADMINISTRATION &amp; MANAGE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YYANGAR COMMITTEE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EATER SPE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FFECTIVENE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PONSIVENE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5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. GOLWA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OLWALA REPORT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LE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FFICI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9d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MPARTIAL ADMINISTR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AUL H. APPLEBY’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953 – PUBLIC ADMINISTRATION 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DIA: REPORT OF A SURVE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956 – RE-EXAMINATION O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DIA’S ADMINISTARTI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YST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AJOR RECOMMEND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TTING UP OF INDIAN INSTITU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UBLIC ADMINISTRATION (IIP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MROVING RECORDS AND FIL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95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RGANISA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ETHODS DIVI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[O &amp; M DIVISION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 CABINET SECRETARI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 &amp; M CEL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T UP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ACH MINIST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 &amp; M DIVIS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AIM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IMPROVEMENT IN PUBLIC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LOCATE PROBLEM AREA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UGGEST REMEDI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9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ONTRIBUTIONS OF O&amp;M DIV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DELEGATION OF POWER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INTRODUCE CONCEPT OF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ERSONAL DISCUSSION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INSTEAD OF FILE PUSHING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TANDING GUARD FILE –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RODUCED TO REDUCE DELAY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RINTED REPORTS OF GOV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HOULD BE EASILY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AVAILABLE TO PUBLIC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ONTROLS OVER PUBLIC ADMINISTR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9d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LEGISLATIVE CONTROL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09d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UDGET DISCUSSION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09d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QUESTION HOUR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09d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ZERO HOUR DISCUSSIONS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09d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OTIONS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09d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BATES – Issues &amp; Legisl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09d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ARLIAMENTARY COMMITTE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09d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UDI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BRING OUT MANUAL OF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FFICE PROCEDURE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IMPLIFICATION OF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ROCEDURE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RAINING ACTIVITIE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1964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ANTHANAM COMMITTE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O LOOK INTO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ROBLEM OF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ORRUPT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ANTHANAM COMMITTE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1964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ENTRAL VIGILANC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OMMISS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ET UP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1964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DEPARTMENT OF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DMINISTRATIVE REFORMS SET UP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1966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DMINISTRATIVE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REFORMS COMMISS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ET UP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[ARC]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1970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RC REPOR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RC RECOMMENDATION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ACHINERY OF GOVT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ND PROCEDURE OF WORK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ERSONNEL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DMINISTRATION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TATE ADMINISTRATION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ACHINERY FOR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LANNING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ONTROLS OVER PUBLIC ADMINISTR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XECUTIVE CONTRO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LECTIVE RESPONSIBILITY OF COUNCIL OF MINISTERS TO LOK SABHA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VER CIVIL SERVIC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OINTMENT &amp; REMOVAL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DGET &amp; FINANCIAL CONTROL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ENTRE-STATE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RELATIONSHIP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REDRESS OF PUBLIC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RIEVANCE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1985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EPARAT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INISTRY OF PERSONNEL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UBLIC GRIEVANCES &amp;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ENSION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OVERNA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act or manner of governing or the way of control; (Dictionary meaning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process by which decisions are made and implemented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ontexts: corporate governance, national governance, local governance, international governance etc.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Government is one of the actors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OVERNA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ivil Society has emerged as a powerful, influential actor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ivil Society may include NGOs, Research/ Financial Institutes, Media, Education Providers, Assn of peasants, Lobbyists, Cooperatives, Industries, Multinational Corporations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ivil Society in Rural /Urban areas -differenc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3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4"/>
          <p:cNvSpPr/>
          <p:nvPr/>
        </p:nvSpPr>
        <p:spPr>
          <a:xfrm>
            <a:off x="2136240" y="38088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UNTABILITY PARADIG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3429000" y="1085760"/>
            <a:ext cx="213372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ARLIA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3581280" y="2533680"/>
            <a:ext cx="175284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N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581280" y="3981600"/>
            <a:ext cx="167652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IN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3429000" y="5353200"/>
            <a:ext cx="1981080" cy="9903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6629400" y="5429160"/>
            <a:ext cx="121932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685800" y="5353200"/>
            <a:ext cx="160020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1"/>
          <p:cNvSpPr/>
          <p:nvPr/>
        </p:nvSpPr>
        <p:spPr>
          <a:xfrm>
            <a:off x="6324480" y="4210200"/>
            <a:ext cx="198144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U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"/>
          <p:cNvSpPr/>
          <p:nvPr/>
        </p:nvSpPr>
        <p:spPr>
          <a:xfrm>
            <a:off x="6095880" y="2990880"/>
            <a:ext cx="243864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MBUDS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1066680" y="3981600"/>
            <a:ext cx="91440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14"/>
          <p:cNvSpPr/>
          <p:nvPr/>
        </p:nvSpPr>
        <p:spPr>
          <a:xfrm>
            <a:off x="5641920" y="565776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 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15"/>
          <p:cNvSpPr/>
          <p:nvPr/>
        </p:nvSpPr>
        <p:spPr>
          <a:xfrm>
            <a:off x="2441520" y="5581800"/>
            <a:ext cx="68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 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2290680" y="42102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 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4194000" y="48196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18"/>
          <p:cNvSpPr/>
          <p:nvPr/>
        </p:nvSpPr>
        <p:spPr>
          <a:xfrm>
            <a:off x="4194000" y="352440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19"/>
          <p:cNvSpPr/>
          <p:nvPr/>
        </p:nvSpPr>
        <p:spPr>
          <a:xfrm>
            <a:off x="4194000" y="200016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20"/>
          <p:cNvSpPr/>
          <p:nvPr/>
        </p:nvSpPr>
        <p:spPr>
          <a:xfrm>
            <a:off x="7013880" y="2000160"/>
            <a:ext cx="4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21"/>
          <p:cNvSpPr/>
          <p:nvPr/>
        </p:nvSpPr>
        <p:spPr>
          <a:xfrm>
            <a:off x="6176880" y="1314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  &lt;  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OOD GOVERNA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epends on the efficient functioning of Executive, Legislature, Judiciary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Responsive, Accountable, Transparent, Decentralised, People friendly, Citizen- centric Administration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nvolves active participation of people with Government in policy making, planning, implementation and monitorin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Oval 4"/>
          <p:cNvSpPr/>
          <p:nvPr/>
        </p:nvSpPr>
        <p:spPr>
          <a:xfrm>
            <a:off x="2590920" y="2286000"/>
            <a:ext cx="4190760" cy="1523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OVER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5"/>
          <p:cNvSpPr/>
          <p:nvPr/>
        </p:nvSpPr>
        <p:spPr>
          <a:xfrm>
            <a:off x="3587760" y="91440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UN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768240" y="175248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6566760" y="182880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PO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Box 8"/>
          <p:cNvSpPr/>
          <p:nvPr/>
        </p:nvSpPr>
        <p:spPr>
          <a:xfrm>
            <a:off x="383040" y="2438280"/>
            <a:ext cx="20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ITA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LUSU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Box 9"/>
          <p:cNvSpPr/>
          <p:nvPr/>
        </p:nvSpPr>
        <p:spPr>
          <a:xfrm>
            <a:off x="318960" y="3657600"/>
            <a:ext cx="200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EN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10"/>
          <p:cNvSpPr/>
          <p:nvPr/>
        </p:nvSpPr>
        <p:spPr>
          <a:xfrm>
            <a:off x="3424320" y="472428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P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1"/>
          <p:cNvSpPr/>
          <p:nvPr/>
        </p:nvSpPr>
        <p:spPr>
          <a:xfrm>
            <a:off x="6847920" y="3733920"/>
            <a:ext cx="172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12"/>
          <p:cNvSpPr/>
          <p:nvPr/>
        </p:nvSpPr>
        <p:spPr>
          <a:xfrm>
            <a:off x="7047360" y="2590920"/>
            <a:ext cx="19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3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8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1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9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GOOD GOVERNA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RESENT THRUST 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RESPONSIVE ADMN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ITIZEN FRIENDLY GOVT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EMPOWERMENT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CCOUNTABILITY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4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4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9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ITIZEN FRIENDLY GOVT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ONTROLS OVER PUBLIC ADMINISTR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JUDICIAL CONTR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ONS – Constitutional &amp; as per law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USE OF POWE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CK OF JURISDICTION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CEDURAL ERRO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RROR OF LAW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RRORS IN FACT-FIND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ITIZENS’ CHART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TANDARD OF SERVIC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IME LIMI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ITIZENS &amp; CONSUMER GROUP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6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UBLIC GRIEVANCE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REVIEW OF LAWS, REGUL-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TIONS, PROCEDURE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INGLE WINDOW CONCEP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1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DECENTRALISAT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DEVOLUT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ANCHAYAT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3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3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RANSPARENCY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RIGHT TO INFORMAT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0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5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REFO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NTEGRITY OF PUBLIC SERVICE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bf5f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ACKLE CORRUPT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2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7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N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A. R. C. Re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OOD GOVERNANCE &amp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ITIZEN CENTRIC ADMINIST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REREQUISI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ound legal framework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obust institutional mechanism for proper implementation of laws &amp; their effective functioning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4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7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2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7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2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n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A. R. C. Re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mpetent personnel staffing these institutions &amp; sound personnel 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ight policies for decentralization,     delegation &amp; accountability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4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n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A. R. C. Re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RE PRINCIPLES FOR MAK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OVERNMENT CITIZEN CENTR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ule of law – Zero tolerance strategy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aking institutions vibrant, responsive &amp; accountabl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ecentralization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ransparency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9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4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n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A. R. C. Re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ivil Services Reform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thics in Governmen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rocess Refor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1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6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1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RIVATE &amp; PUBLIC ADMINISTRA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SIMILARITIE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IFFERENCE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ACCOUNTABILITY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PUBLIC SCRUTINY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IMPARTIALITY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LEGAL FRAMEWORK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RULES &amp; PROCEDUR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n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ARC Re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-GOVERN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uilding a congenial environment – will to chang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dentification of e-governance projects &amp; prioritisation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usiness Process Re-engineerin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Analysi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View points of stake holders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Simplification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Review of forms, processes &amp; structu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3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3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8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3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3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n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ARC Re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apacity Building &amp; Creating Awarenes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Professional Skills Developmen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Trai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mplementation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Up-dating websit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Structural Analysis – Step by step analysis in complex project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0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5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0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5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5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0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n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ARC Re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nitoring &amp; Evalua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Involving Independent Agenci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ublic-Private Partnership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Transparent pro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2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7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n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ARC Re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ission Mode Projec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Computerisation of Land Record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Passport &amp; Visa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Unique National Identification Number &amp; Car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egal Framework for e-governanc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Knowledge Manage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4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9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4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9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4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THANK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YOU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RIVATE &amp; PUBLIC ADMINISTRA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PROFIT MOTIV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NATURE OF TASKS PERFORMED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FINANCIAL CONTROL – External in Public Administration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MONOPOLY – In certain ar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W PUBLIC MANA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ENTREPRENEURISM IN GOVERNMENT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PROVIDE COMPETITION BETWEEN SERVICE PROVID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EMPOWER CITIZE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PUSH CONTROL OU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PERFORMANCE JUDGED BY OUTCOMES; NOT INPU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8:06:43Z</dcterms:created>
  <dc:creator>Impact Academy of Training and Consultancy</dc:creator>
  <dc:description/>
  <dc:language>en-US</dc:language>
  <cp:lastModifiedBy>jmd</cp:lastModifiedBy>
  <dcterms:modified xsi:type="dcterms:W3CDTF">2014-03-10T17:55:46Z</dcterms:modified>
  <cp:revision>165</cp:revision>
  <dc:subject/>
  <dc:title>PUBLIC ADMINISTRATION</dc:title>
</cp:coreProperties>
</file>